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713-C003-4F20-97F7-C85FEE9E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F26-6EAA-4497-9C7C-97184A79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EDE-BF37-456A-B67A-EB45F120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73C-EAD8-4CD8-A448-B22904DA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F0E-DF76-4313-9E27-02B84B0D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0B8-4D61-466E-BD93-2E3D6ACB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111-5DC9-4A8D-9094-8EB51838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409-EF67-4BBC-AF53-24568315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D20-DA4F-42B7-857C-D0D0AC4B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716-F74C-4735-8791-AB47FE45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B9A-BF82-4832-926C-BA0358C8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C54-3712-4818-95F4-59721BD1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450E-4D7B-495C-8D56-4792B8BC3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Me llamo _________ Clase 802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la fecha 14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oposito # 18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omo repasamos para l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ueba: Repaso 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 juev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antos años tien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antas personas hay en tu famili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Tienen uds. Una casa o un apartame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antos cuartos tiene su casa o apartame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al es tu cuarto favori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II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a __________ muchos libros.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_ un sándwich de jamón y queso. (co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isa __________ la televisión en la sala. (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Sr. Gómez _________ la comida en el mercado. (compr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_ en un edificio. (viv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IV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raw a floor plan of your house and label all the 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MIS POSESIONES FAVORITAS Y UN RESUMEN GRAMA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your Quiz FRI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/ 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"/>
          <p:cNvPicPr/>
          <p:nvPr/>
        </p:nvPicPr>
        <p:blipFill>
          <a:blip r:embed="rId1"/>
          <a:stretch/>
        </p:blipFill>
        <p:spPr>
          <a:xfrm>
            <a:off x="990720" y="19051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990720" y="196920"/>
            <a:ext cx="739116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19810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8580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ga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you-singular"/>
          <p:cNvPicPr/>
          <p:nvPr/>
        </p:nvPicPr>
        <p:blipFill>
          <a:blip r:embed="rId1"/>
          <a:stretch/>
        </p:blipFill>
        <p:spPr>
          <a:xfrm>
            <a:off x="685800" y="2036880"/>
            <a:ext cx="4038480" cy="2936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396040" y="2057400"/>
            <a:ext cx="29858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sombr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e"/>
          <p:cNvPicPr/>
          <p:nvPr/>
        </p:nvPicPr>
        <p:blipFill>
          <a:blip r:embed="rId1"/>
          <a:stretch/>
        </p:blipFill>
        <p:spPr>
          <a:xfrm>
            <a:off x="685800" y="2443320"/>
            <a:ext cx="3733920" cy="272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0368"/>
          <p:cNvPicPr/>
          <p:nvPr/>
        </p:nvPicPr>
        <p:blipFill>
          <a:blip r:embed="rId2"/>
          <a:stretch/>
        </p:blipFill>
        <p:spPr>
          <a:xfrm>
            <a:off x="5410080" y="2971800"/>
            <a:ext cx="24386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505320" cy="254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5543640" y="22096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 aho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962520" cy="28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HCA016J"/>
          <p:cNvPicPr/>
          <p:nvPr/>
        </p:nvPicPr>
        <p:blipFill>
          <a:blip r:embed="rId1"/>
          <a:stretch/>
        </p:blipFill>
        <p:spPr>
          <a:xfrm>
            <a:off x="5334120" y="2666880"/>
            <a:ext cx="2361960" cy="177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i"/>
          <p:cNvPicPr/>
          <p:nvPr/>
        </p:nvPicPr>
        <p:blipFill>
          <a:blip r:embed="rId2"/>
          <a:stretch/>
        </p:blipFill>
        <p:spPr>
          <a:xfrm>
            <a:off x="990720" y="228600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gorra az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30968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2860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7153200" y="1752480"/>
            <a:ext cx="1762200" cy="1592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2209680" cy="151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5"/>
          <a:stretch/>
        </p:blipFill>
        <p:spPr>
          <a:xfrm>
            <a:off x="2666880" y="4343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6"/>
          <a:stretch/>
        </p:blipFill>
        <p:spPr>
          <a:xfrm>
            <a:off x="4724280" y="4038480"/>
            <a:ext cx="2067120" cy="2210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7162920" y="4724280"/>
            <a:ext cx="1614240" cy="1216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1440" y="3733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415960" y="3733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4626000" y="3290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835680" y="3290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7776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2644560" y="6172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4649760" y="62485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701172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http://flxitsolutions.com/wp-content/uploads/2014/09/clipart-sandwichsandwich-20clipart-clipart-panda---free-clipart-images-bio5k2sx.gif"/>
          <p:cNvPicPr/>
          <p:nvPr/>
        </p:nvPicPr>
        <p:blipFill>
          <a:blip r:embed="rId8"/>
          <a:stretch/>
        </p:blipFill>
        <p:spPr>
          <a:xfrm>
            <a:off x="4797360" y="2243160"/>
            <a:ext cx="19843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29080" cy="163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3124440" cy="238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04920" y="4081320"/>
            <a:ext cx="2514600" cy="173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4"/>
          <a:stretch/>
        </p:blipFill>
        <p:spPr>
          <a:xfrm>
            <a:off x="3352680" y="4038480"/>
            <a:ext cx="2657520" cy="1724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5"/>
          <a:stretch/>
        </p:blipFill>
        <p:spPr>
          <a:xfrm>
            <a:off x="6553080" y="3886200"/>
            <a:ext cx="228600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82600" y="2286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254400" y="2604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554880" y="2604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440" y="5805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3201840" y="579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097680" y="5805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http://images.clipartpanda.com/soda-clip-art-Gerald_G_Fast_Food_Drinks_%28FF_Menu%29_4.png"/>
          <p:cNvPicPr/>
          <p:nvPr/>
        </p:nvPicPr>
        <p:blipFill>
          <a:blip r:embed="rId6"/>
          <a:stretch/>
        </p:blipFill>
        <p:spPr>
          <a:xfrm>
            <a:off x="7446960" y="900000"/>
            <a:ext cx="8841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7:41:09Z</dcterms:created>
  <dc:creator>Helen Zumaeta</dc:creator>
  <dc:description/>
  <dc:language>en-US</dc:language>
  <cp:lastModifiedBy>Helen Zumaeta</cp:lastModifiedBy>
  <cp:lastPrinted>2014-10-14T04:22:04Z</cp:lastPrinted>
  <dcterms:modified xsi:type="dcterms:W3CDTF">2014-10-14T14:59:31Z</dcterms:modified>
  <cp:revision>13</cp:revision>
  <dc:subject/>
  <dc:title>Slide 1</dc:title>
</cp:coreProperties>
</file>